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1.jpeg" ContentType="image/jpeg"/>
  <Override PartName="/ppt/media/image4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13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3.jpeg" ContentType="image/jpeg"/>
  <Override PartName="/ppt/media/image30.png" ContentType="image/png"/>
  <Override PartName="/ppt/media/image46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12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25.png" ContentType="image/png"/>
  <Override PartName="/ppt/media/image19.jpeg" ContentType="image/jpeg"/>
  <Override PartName="/ppt/media/image4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D05-D10B-4357-B42C-FD28670C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09E-5B79-4767-92F4-6B607DE9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A5F-A022-4EFA-9D7E-5D9582E2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923-11C6-4EBD-8F11-10E4A4FA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3FD-B942-4A83-BB55-BDA852D9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764-45C8-4817-8695-8DDE75AB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6EB-F8C3-4CA3-812A-44D9AD52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190-E4A6-426F-AC75-A29D7FB3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52A-B9AA-4373-A9D8-8EAF9512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8AE-12B2-46D8-89A5-347CBE34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B90-E4F2-4E18-929F-3D2DC27D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B32-E296-494D-B9FF-A92904C4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1E27-65FD-4540-917B-1790F073D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image" Target="../media/image44.jpeg"/><Relationship Id="rId8" Type="http://schemas.openxmlformats.org/officeDocument/2006/relationships/image" Target="../media/image44.jpeg"/><Relationship Id="rId9" Type="http://schemas.openxmlformats.org/officeDocument/2006/relationships/image" Target="../media/image44.jpe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971800" cy="571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304776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2971800" cy="5715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76320" y="76320"/>
            <a:ext cx="8915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Три различни евангелия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23623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"ЕРОС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99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спас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99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чрез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99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де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99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390840" y="1676520"/>
            <a:ext cx="23623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"КАРИТАС"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спасение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чрез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вяра и дела</a:t>
            </a:r>
            <a:endParaRPr b="1" lang="en-US" sz="2400" spc="1" strike="noStrike">
              <a:ln w="936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cc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629400" y="1676520"/>
            <a:ext cx="20574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efefe"/>
                    </a:gs>
                    <a:gs pos="100000">
                      <a:srgbClr val="ff00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ff461b"/>
                  </a:outerShdw>
                </a:effectLst>
                <a:latin typeface="Tahoma"/>
              </a:rPr>
              <a:t>"АГАПЕ"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50000">
                    <a:srgbClr val="fefefe"/>
                  </a:gs>
                  <a:gs pos="100000">
                    <a:srgbClr val="ff0066"/>
                  </a:gs>
                </a:gsLst>
                <a:lin ang="8100000"/>
              </a:gradFill>
              <a:effectLst>
                <a:outerShdw dist="17819" dir="2700000" blurRad="0" rotWithShape="0">
                  <a:srgbClr val="ff461b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efefe"/>
                    </a:gs>
                    <a:gs pos="100000">
                      <a:srgbClr val="ff00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ff461b"/>
                  </a:outerShdw>
                </a:effectLst>
                <a:latin typeface="Tahoma"/>
              </a:rPr>
              <a:t>спасени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50000">
                    <a:srgbClr val="fefefe"/>
                  </a:gs>
                  <a:gs pos="100000">
                    <a:srgbClr val="ff0066"/>
                  </a:gs>
                </a:gsLst>
                <a:lin ang="8100000"/>
              </a:gradFill>
              <a:effectLst>
                <a:outerShdw dist="17819" dir="2700000" blurRad="0" rotWithShape="0">
                  <a:srgbClr val="ff461b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efefe"/>
                    </a:gs>
                    <a:gs pos="100000">
                      <a:srgbClr val="ff00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ff461b"/>
                  </a:outerShdw>
                </a:effectLst>
                <a:latin typeface="Tahoma"/>
              </a:rPr>
              <a:t>единствен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50000">
                    <a:srgbClr val="fefefe"/>
                  </a:gs>
                  <a:gs pos="100000">
                    <a:srgbClr val="ff0066"/>
                  </a:gs>
                </a:gsLst>
                <a:lin ang="8100000"/>
              </a:gradFill>
              <a:effectLst>
                <a:outerShdw dist="17819" dir="2700000" blurRad="0" rotWithShape="0">
                  <a:srgbClr val="ff461b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efefe"/>
                    </a:gs>
                    <a:gs pos="100000">
                      <a:srgbClr val="ff00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ff461b"/>
                  </a:outerShdw>
                </a:effectLst>
                <a:latin typeface="Tahoma"/>
              </a:rPr>
              <a:t>чрез вяра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66"/>
                  </a:gs>
                  <a:gs pos="50000">
                    <a:srgbClr val="fefefe"/>
                  </a:gs>
                  <a:gs pos="100000">
                    <a:srgbClr val="ff0066"/>
                  </a:gs>
                </a:gsLst>
                <a:lin ang="8100000"/>
              </a:gradFill>
              <a:effectLst>
                <a:outerShdw dist="17819" dir="2700000" blurRad="0" rotWithShape="0">
                  <a:srgbClr val="ff461b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867280"/>
            <a:ext cx="2971800" cy="1008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42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1" lang="bg-BG" sz="2000" spc="-1" strike="noStrike">
                <a:solidFill>
                  <a:srgbClr val="ffffcc"/>
                </a:solidFill>
                <a:latin typeface="Tahoma"/>
              </a:rPr>
              <a:t>н.3:16;Еф.2:1-6; 1Тм.1: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cc"/>
                </a:solidFill>
                <a:latin typeface="Tahoma"/>
              </a:rPr>
              <a:t>Тит 3:3-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5819760"/>
            <a:ext cx="3047760" cy="10386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cc"/>
                </a:solidFill>
                <a:latin typeface="Tahoma"/>
              </a:rPr>
              <a:t>Г</a:t>
            </a:r>
            <a:r>
              <a:rPr b="1" lang="bg-BG" sz="3100" spc="-1" strike="noStrike">
                <a:solidFill>
                  <a:srgbClr val="ffffcc"/>
                </a:solidFill>
                <a:latin typeface="Tahoma"/>
              </a:rPr>
              <a:t>ал. 1:6,7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100" spc="-1" strike="noStrike">
                <a:solidFill>
                  <a:srgbClr val="ffffcc"/>
                </a:solidFill>
                <a:latin typeface="Tahoma"/>
              </a:rPr>
              <a:t>Мат.19:16,26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91320"/>
            <a:ext cx="2971800" cy="10386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1" lang="bg-BG" sz="3100" spc="-1" strike="noStrike">
                <a:solidFill>
                  <a:srgbClr val="ffffcc"/>
                </a:solidFill>
                <a:latin typeface="Tahoma"/>
              </a:rPr>
              <a:t>н. 9:31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1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bg-BG" sz="3100" spc="-1" strike="noStrike">
                <a:solidFill>
                  <a:srgbClr val="ffffcc"/>
                </a:solidFill>
                <a:latin typeface="Tahoma"/>
              </a:rPr>
              <a:t>Мат. 5:43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990720" y="0"/>
            <a:ext cx="10744200" cy="6939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5638680"/>
            <a:ext cx="868680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ff0000"/>
                </a:solidFill>
                <a:latin typeface="Tahoma"/>
              </a:rPr>
              <a:t>А ние всички, с открито лице, като в огледало, гледайки Господната слава, се преобразяваме в същия образ, от слава в слава, както от Духа Господен.</a:t>
            </a:r>
            <a:r>
              <a:rPr b="1" lang="bg-BG" sz="2200" spc="-1" strike="noStrike">
                <a:solidFill>
                  <a:srgbClr val="ff0066"/>
                </a:solidFill>
                <a:latin typeface="Tahoma"/>
              </a:rPr>
              <a:t>        </a:t>
            </a:r>
            <a:r>
              <a:rPr b="1" lang="bg-BG" sz="2200" spc="-1" strike="noStrike">
                <a:solidFill>
                  <a:srgbClr val="ff9900"/>
                </a:solidFill>
                <a:latin typeface="Tahoma"/>
              </a:rPr>
              <a:t>2 Кор. 3: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057400" y="2209680"/>
            <a:ext cx="48006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Проблемъ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с грех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3240"/>
          <a:ext cx="9144000" cy="6851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66880" y="1981080"/>
            <a:ext cx="3733920" cy="2800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43600" y="4395960"/>
            <a:ext cx="3200400" cy="2400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666880" y="194328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562720" y="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0" y="405756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4403880"/>
            <a:ext cx="7772400" cy="703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bg-BG" sz="4000" spc="-1" strike="noStrike">
                <a:solidFill>
                  <a:srgbClr val="ffff99"/>
                </a:solidFill>
                <a:latin typeface="Tahoma"/>
              </a:rPr>
              <a:t>КАКВО Е ТОВА ЕВАНГЕЛ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95680" y="0"/>
            <a:ext cx="76320" cy="6858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057400"/>
            <a:ext cx="9220320" cy="76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bg-BG" sz="36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bg-BG" sz="3600" spc="-1" strike="noStrike">
                <a:solidFill>
                  <a:srgbClr val="ff3300"/>
                </a:solidFill>
                <a:latin typeface="Tahoma"/>
              </a:rPr>
              <a:t>ВИЕ В ХРИСТА”</a:t>
            </a: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ccffff"/>
                </a:solidFill>
                <a:latin typeface="Tahoma"/>
              </a:rPr>
              <a:t>“ХРИСТОС ВЪВ ВАС”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99"/>
                </a:solidFill>
                <a:latin typeface="Tahoma"/>
              </a:rPr>
              <a:t>                  </a:t>
            </a:r>
            <a:r>
              <a:rPr b="0" lang="bg-BG" sz="3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bg-BG" sz="32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bg-BG" sz="3200" spc="-1" strike="noStrike">
                <a:solidFill>
                  <a:srgbClr val="ff3300"/>
                </a:solidFill>
                <a:latin typeface="Tahoma"/>
              </a:rPr>
              <a:t> евангелие</a:t>
            </a:r>
            <a:r>
              <a:rPr b="0" lang="bg-BG" sz="32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bg-BG" sz="3200" spc="-1" strike="noStrike">
                <a:solidFill>
                  <a:srgbClr val="ccffff"/>
                </a:solidFill>
                <a:latin typeface="Tahoma"/>
              </a:rPr>
              <a:t>плод на евангелиет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ffff99"/>
                </a:solidFill>
                <a:latin typeface="Tahoma"/>
              </a:rPr>
              <a:t>1 Кор.1:30,31 Еф.1:3-6,2:13; Фил.3:9</a:t>
            </a:r>
            <a:r>
              <a:rPr b="0" lang="bg-BG" sz="2000" spc="-1" strike="noStrike">
                <a:solidFill>
                  <a:srgbClr val="ffccff"/>
                </a:solidFill>
                <a:latin typeface="Tahoma"/>
              </a:rPr>
              <a:t>     </a:t>
            </a:r>
            <a:r>
              <a:rPr b="0" lang="bg-BG" sz="2000" spc="-1" strike="noStrike">
                <a:solidFill>
                  <a:srgbClr val="ffffcc"/>
                </a:solidFill>
                <a:latin typeface="Tahoma"/>
              </a:rPr>
              <a:t>Рим.8:10;Гал.2:20;Еф.3:17;Кол.1: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bg-BG" sz="3200" spc="-1" strike="noStrike">
                <a:solidFill>
                  <a:srgbClr val="ff3300"/>
                </a:solidFill>
                <a:latin typeface="Tahoma"/>
              </a:rPr>
              <a:t>вменена праведност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  </a:t>
            </a:r>
            <a:r>
              <a:rPr b="0" lang="bg-BG" sz="3200" spc="-1" strike="noStrike">
                <a:solidFill>
                  <a:srgbClr val="ccffff"/>
                </a:solidFill>
                <a:latin typeface="Tahoma"/>
              </a:rPr>
              <a:t>придадена правед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05740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bg-BG" sz="3600" spc="-1" strike="noStrike">
                <a:solidFill>
                  <a:srgbClr val="ff3300"/>
                </a:solidFill>
                <a:latin typeface="Tahoma"/>
              </a:rPr>
              <a:t>Завършено дело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  </a:t>
            </a:r>
            <a:r>
              <a:rPr b="0" lang="bg-BG" sz="3600" spc="-1" strike="noStrike">
                <a:solidFill>
                  <a:srgbClr val="ccffff"/>
                </a:solidFill>
                <a:latin typeface="Tahoma"/>
              </a:rPr>
              <a:t>Не завършено дел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1 Кор.6:11; Еф. 1:3; Кол. 2:10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Рим.5:3-5; 8:18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1Кор.15:51-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429000"/>
            <a:ext cx="937260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У</a:t>
            </a:r>
            <a:r>
              <a:rPr b="0" lang="bg-BG" sz="3600" spc="-1" strike="noStrike">
                <a:solidFill>
                  <a:srgbClr val="ff3300"/>
                </a:solidFill>
                <a:latin typeface="Tahoma"/>
              </a:rPr>
              <a:t>ниверсално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ccffff"/>
                </a:solidFill>
                <a:latin typeface="Tahoma"/>
              </a:rPr>
              <a:t> Персонално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Рим.5:18;2Кор.5:18,19;1Ин.2:2.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 Рим.8:9,10;2Кор.3:17,18;6:14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5616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      </a:t>
            </a:r>
            <a:r>
              <a:rPr b="0" lang="bg-BG" sz="3600" spc="-1" strike="noStrike">
                <a:solidFill>
                  <a:srgbClr val="ff3300"/>
                </a:solidFill>
                <a:latin typeface="Tahoma"/>
              </a:rPr>
              <a:t>Вън от нас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bg-BG" sz="3600" spc="-1" strike="noStrike">
                <a:solidFill>
                  <a:srgbClr val="ccffff"/>
                </a:solidFill>
                <a:latin typeface="Tahoma"/>
              </a:rPr>
              <a:t>Вътре в нас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Рим.3:21,28; Фил. 3:9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Ин.15:1-5;17:23; Рим.8:9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791320"/>
            <a:ext cx="92203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	</a:t>
            </a:r>
            <a:r>
              <a:rPr b="0" lang="bg-BG" sz="3600" spc="-1" strike="noStrike">
                <a:solidFill>
                  <a:srgbClr val="ff3300"/>
                </a:solidFill>
                <a:latin typeface="Tahoma"/>
              </a:rPr>
              <a:t>Дава награда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bg-BG" sz="3600" spc="-1" strike="noStrike">
                <a:solidFill>
                  <a:srgbClr val="ccffff"/>
                </a:solidFill>
                <a:latin typeface="Tahoma"/>
              </a:rPr>
              <a:t>Демонстрира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Деян.13:39; Рим.3:28; Гал.2:16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Мат.5:14-16;Ин.13:34,35; 14: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5268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57200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76320" y="571500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05120" y="9907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1600200"/>
            <a:ext cx="3886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Затъмняване на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доктрината 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Христос - нашия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заместник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09480"/>
            <a:ext cx="9144000" cy="603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яма извинение за тези, които считат, че не е необходимо, да ни се открива повече светлина за истината и че не допускаме грешки в тълкуването на Свещеното Писани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Фактът, че определени доктрин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считаме за истинни в нашат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църква в продължение на много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години, не трябва да се приема като доказателство, че те са верни. Заблужденията не се установяват с временна истина, правдата е безпристрастна. Ни една истинна доктрина не губи нищо при едно по-щателно изследван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213600"/>
            <a:ext cx="9448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Counsels to Writers and Editors, page 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040" y="30240"/>
            <a:ext cx="908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99"/>
                </a:solidFill>
                <a:latin typeface="Tahoma"/>
              </a:rPr>
              <a:t>Духът на пророчество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70160" y="792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 да покаже правдата Си в настоящото време и да се познае, че Той е праведен и че оправдава този, който вярва в Исус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cc00"/>
                </a:solidFill>
                <a:latin typeface="Tahoma"/>
              </a:rPr>
              <a:t>Рим. 3: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70160" y="792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клевам се в живота Си, казва Господ Йехова, няма да има вече повод да употребите тази поговорка в Израе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cc00"/>
                </a:solidFill>
                <a:latin typeface="Tahoma"/>
              </a:rPr>
              <a:t>Йезекил 18:2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9677520" cy="742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66880" y="0"/>
            <a:ext cx="5334120" cy="77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тих 20 пророк Иезекил прави извод: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ушата, която съгрешава, ще умре; синът не ще понесе вината на баща, и баща не ще понесе вината на син, </a:t>
            </a:r>
            <a:r>
              <a:rPr b="0" lang="bg-BG" sz="3600" spc="-1" strike="noStrike">
                <a:solidFill>
                  <a:srgbClr val="ffcc66"/>
                </a:solidFill>
                <a:latin typeface="Tahoma"/>
              </a:rPr>
              <a:t>правдата на праведния при него си остава и беззаконието на беззаконния при него си оста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0" y="228600"/>
            <a:ext cx="4800600" cy="612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Човешка приро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това, което е стана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Син чове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шки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— Лк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9: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Роден от жен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Гал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4: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Плът — Ин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: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Образ на слуга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Фил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2: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Гре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шен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 2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Кор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5:21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Зависим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Ин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5:19, 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Смър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Евр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2:14, 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Под закон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Гал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4: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"/>
            <a:ext cx="4267080" cy="725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Божествена прир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това, което Той 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1. С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 Божий — Лк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:3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Самосъществуващ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н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: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Дух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Ин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4:2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Рав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 н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Бог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Фил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2: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Безгреш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Кор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5:2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Независим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Ин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0:1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Бе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м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ъ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Тим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:1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Законодател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ак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4: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0"/>
            <a:ext cx="152280" cy="685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462f17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462f17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380880" y="0"/>
            <a:ext cx="9524880" cy="682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cc"/>
                </a:solidFill>
                <a:latin typeface="Tahoma"/>
              </a:rPr>
              <a:t>По природа ние см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Духовно м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ъ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тв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ос см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духовно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жи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вя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ли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Еф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2: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Грешни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ц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, но в Хрис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ос см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ста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ли праведни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— 2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Кор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5:2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Ос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ъ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ен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ос см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оправдан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им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5:1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С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ов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чове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шки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ос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с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м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Бож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ии чада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— 1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Ин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3: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 Привързани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к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ъм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ад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ос сме  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поставени н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Небеса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та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Еф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2: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Смъртн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ос см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ста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ли бе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м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ъ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тни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— 2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Тим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1:8-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Бедн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, но в Хрис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ос сме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ста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ли богати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Кор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8: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По долу от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ангелите, но в Христ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ос сме 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съ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следни</a:t>
            </a:r>
            <a:r>
              <a:rPr b="0" lang="bg-BG" sz="2600" spc="-1" strike="noStrike">
                <a:solidFill>
                  <a:srgbClr val="ffffff"/>
                </a:solidFill>
                <a:latin typeface="Tahoma"/>
              </a:rPr>
              <a:t>ци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Евр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2:6-12;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Рим.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8:17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685800"/>
            <a:ext cx="701028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Човешкото естество на Божия син е всичко за нас. Това е златната верига, която съединява нашите души с Христос и посредством Христос - с Бога. Това трябва да бъде предмет на нашето изследване… Изследването въплъщението на Христос е плодородно поле, което възнаграждава търсача на дълбоко скритата истин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213600"/>
            <a:ext cx="9448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cc00"/>
                </a:solidFill>
                <a:latin typeface="Tahoma"/>
              </a:rPr>
              <a:t>Избрани вести - том І ; стр. 2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040" y="30240"/>
            <a:ext cx="9083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99"/>
                </a:solidFill>
                <a:latin typeface="Tahoma"/>
              </a:rPr>
              <a:t>Духът на пророчество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70160" y="792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Той приел падналата, подложена на страдание човешка природа, деградирала и осквернена от грех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АБК том 4; 11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28800" y="7920"/>
            <a:ext cx="731520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00"/>
                </a:solidFill>
                <a:latin typeface="Tahoma"/>
              </a:rPr>
              <a:t>Как да разпознаваме Божия Дух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По това познавайте Божия Дух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всеки Дух, който изповядва, че Исус Христос е дошъл в плът, е от Бог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ccffff"/>
                </a:solidFill>
                <a:latin typeface="Tahoma"/>
              </a:rPr>
              <a:t>1Йоан. 4: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14400" y="7920"/>
            <a:ext cx="82296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Предпазване от лъжеучители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Всеки дух, който не изповядва че Исус Христос е дошъл в плът не е от Бога; това е духът на антихриста, за когото сте слушали, че иде, и сега вече е в света.</a:t>
            </a:r>
            <a:r>
              <a:rPr b="0" lang="bg-BG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ccffff"/>
                </a:solidFill>
                <a:latin typeface="Tahoma"/>
              </a:rPr>
              <a:t>1Йоан. 4: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982080" cy="7664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914400" y="533520"/>
            <a:ext cx="3219480" cy="1104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Tahoma"/>
              </a:rPr>
              <a:t>Двамата Адам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Tahoma"/>
              </a:rPr>
              <a:t>част вто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666720"/>
            <a:ext cx="471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1Кор.15:19-23,45-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600" y="1844640"/>
            <a:ext cx="4419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Ада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Ису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Христос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95280" y="609480"/>
            <a:ext cx="5248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1Коринтяни 15:19-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35160"/>
            <a:ext cx="5257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ко само в този живот се надяваме на Христос, то от всички човеци ние сме най-много за съжаление. Но сега Христос е бил възкресен, първият плод от починалите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8001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Моите помисли не са като вашите помисли, нито вашите пътища - к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 Моите пътища, казва Господ. Понеже както небето е по-високо от земята, така и Моите пътища са по-високи от вашите  пътища и Моите помисли - от вашите помисли.         </a:t>
            </a:r>
            <a:r>
              <a:rPr b="0" lang="bg-BG" sz="3600" spc="-1" strike="noStrike">
                <a:solidFill>
                  <a:srgbClr val="00cc99"/>
                </a:solidFill>
                <a:latin typeface="Tahoma"/>
              </a:rPr>
              <a:t>Исая 55:8,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419720"/>
            <a:ext cx="78487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словото  на кръста е безумие за тези, които погиват; а за нас, които се спасяваме, то е Божия сила.                </a:t>
            </a:r>
            <a:r>
              <a:rPr b="0" lang="bg-BG" sz="3600" spc="-1" strike="noStrike">
                <a:solidFill>
                  <a:srgbClr val="00cc99"/>
                </a:solidFill>
                <a:latin typeface="Tahoma"/>
              </a:rPr>
              <a:t>1 Кор. 1: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57400" y="666720"/>
            <a:ext cx="4638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1Коринтяни 15: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981080"/>
            <a:ext cx="525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Понеже както чрез човека дойде смъртта, така и чрез човека дойде възкресението от мъртви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057400" y="666720"/>
            <a:ext cx="4638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1Коринтяни 15: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981080"/>
            <a:ext cx="525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Защото както в Адам всички умират, така и в Христос всички ще оживея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7400" y="666720"/>
            <a:ext cx="4638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1Коринтяни 15: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981080"/>
            <a:ext cx="5257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Но всеки на свой ред: Христос - първият плод, после, при пришествието на Христос, тези, които са Негов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057400" y="666720"/>
            <a:ext cx="4638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1Коринтяни 15: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81080"/>
            <a:ext cx="5257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Така е и писано: “Първият човек Адам стана жива душа”, а последният Адам стана животворящ ду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057400" y="666720"/>
            <a:ext cx="4638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1Коринтяни 15:4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981080"/>
            <a:ext cx="525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Първият човек е от земята - от пръст; вторият човек е от небет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057400" y="666720"/>
            <a:ext cx="4638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1Коринтяни 15: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981080"/>
            <a:ext cx="525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Какъвто е пръстният, такива са и пръстните; и какъвто е небесният, такива са и небесни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57400" y="666720"/>
            <a:ext cx="4638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1Коринтяни 15: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81080"/>
            <a:ext cx="525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И както сме се облекли в образа на пръстния, ще се облечем и в образа на небес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905120" y="609480"/>
            <a:ext cx="389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ccecff"/>
                </a:solidFill>
                <a:latin typeface="Tahoma"/>
              </a:rPr>
              <a:t>имляни 1:16,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76320" y="1447920"/>
            <a:ext cx="9220320" cy="55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щото не се срамувам от благовестиет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онеже е Божия сила за спас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а всекиго, който вярва …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в него се откр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авдата, която е от Б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чрез вяра към вя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акто е писа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ff99"/>
                </a:solidFill>
                <a:latin typeface="Tahoma"/>
              </a:rPr>
              <a:t>“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Праведния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чрез вя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ще живее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0"/>
            <a:ext cx="4343400" cy="740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1. Поради греха на Адам, над цялото човечество надвиснала смъртна присъда. Евангелието ни защитава от възмездието за греха - втората смър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4343400" cy="740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2. Христовото послушание ни спасява от втората смърт. На кръста Христос изпитал и унищожил само втората смърт. Евангелието ни спасява само от втората смър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4281480"/>
            <a:ext cx="11430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60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3976560"/>
            <a:ext cx="121932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429000"/>
            <a:ext cx="11430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257800"/>
            <a:ext cx="6248520" cy="368280"/>
          </a:xfrm>
          <a:prstGeom prst="rect">
            <a:avLst/>
          </a:prstGeom>
          <a:gradFill rotWithShape="0">
            <a:gsLst>
              <a:gs pos="0">
                <a:srgbClr val="759292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928          1928            1980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76520" y="2819520"/>
            <a:ext cx="1143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D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95480" y="281952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EUD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191120" y="2133720"/>
            <a:ext cx="114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EAD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1905120"/>
            <a:ext cx="6094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1981080"/>
            <a:ext cx="533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981080"/>
            <a:ext cx="457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6024600" y="3034800"/>
            <a:ext cx="3274920" cy="100836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  <a:effectLst>
            <a:outerShdw dist="52300" dir="8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D/EAD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1" lang="bg-BG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1" lang="bg-BG" sz="3600" spc="-1" strike="noStrike">
                <a:solidFill>
                  <a:srgbClr val="ffffff"/>
                </a:solidFill>
                <a:latin typeface="Tahoma"/>
              </a:rPr>
              <a:t>роблемът със западното мисле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990720"/>
            <a:ext cx="327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6</a:t>
            </a:r>
            <a:r>
              <a:rPr b="0" lang="bg-BG" sz="3200" spc="-1" strike="noStrike">
                <a:solidFill>
                  <a:srgbClr val="00cc66"/>
                </a:solidFill>
                <a:latin typeface="Tahoma"/>
              </a:rPr>
              <a:t>056 : 4 = 15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0"/>
            <a:ext cx="4343400" cy="679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3. Паралелът между Адам и Христос има сила, ако приемем за основа идеята за солидарност на човечеството в Адам и в Христос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4648320" cy="740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4. Спасението от втората смърт е висш Божий дар. За да се възползваме от него е необходимо да го приемем. Тези, които го отхвърлят избират втората смър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838080"/>
            <a:ext cx="4343400" cy="557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5. Когато приемем този дар чрез вяра ние се сбогуваме с греха и смъртта и приветстваме  вечния живот в Христос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685800"/>
            <a:ext cx="4343400" cy="557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6. Да приемем Христос, източника на праведност, означава да отхвърлим Адам, източника на грех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0"/>
            <a:ext cx="7162920" cy="740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. Нашата вечна участ зависи от това, какво естество сме избрали. Неверието означава съзнателно да предпочетеш да останеш в Адам. Да вярваш означава съзнателно да избереш да пребъдваш в Христос, за да бъдеш в царството на праведността и вечния живо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228600"/>
            <a:ext cx="8305920" cy="61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. Учението за двамата Адама ясно показва, че нашата надежда може напълно да уповава на Христос - нашата праведност, “защото чрез дела изискани от закона няма да се оправдае пред Него нито една твар”. Хората оправдани единствено чрез вяра в Христос, ще живея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6172200"/>
            <a:ext cx="71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ccff"/>
                </a:solidFill>
                <a:latin typeface="Tahoma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228600"/>
            <a:ext cx="8305920" cy="61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. Учението за двамата Адама е най-важното учение за разбиране на обективното Евангелие и оправданието единствено чрез вяра, но то има също и голяма практическа стойност за нашия християнски опит, защото плодовете на това учение ни водят към свят живо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6172200"/>
            <a:ext cx="716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66ccff"/>
                </a:solidFill>
                <a:latin typeface="Tahoma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 ще познаете истината, и истината ще ви направи свободни” </a:t>
            </a:r>
            <a:r>
              <a:rPr b="0" lang="bg-BG" sz="3600" spc="-1" strike="noStrike">
                <a:solidFill>
                  <a:srgbClr val="66ccff"/>
                </a:solidFill>
                <a:latin typeface="Tahoma"/>
              </a:rPr>
              <a:t>Ин. 8: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81000"/>
            <a:ext cx="10058400" cy="772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971800" y="1371600"/>
            <a:ext cx="3733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Изкупителната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Божия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любо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2867040" cy="464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62120" y="304920"/>
            <a:ext cx="3581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d82900"/>
                  </a:outerShdw>
                </a:effectLst>
                <a:latin typeface="Tahoma"/>
              </a:rPr>
              <a:t>АГАПЕ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d829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57800" y="304920"/>
            <a:ext cx="3505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ФИЛИ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905120"/>
            <a:ext cx="3581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d82900"/>
                  </a:outerShdw>
                </a:effectLst>
                <a:latin typeface="Tahoma"/>
              </a:rPr>
              <a:t>безусловна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d829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4120" y="205740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услов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1447920"/>
            <a:ext cx="4343400" cy="304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d82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0"/>
            <a:ext cx="380880" cy="63219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761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4120" y="312408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изменчи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31240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d82900"/>
                  </a:outerShdw>
                </a:effectLst>
                <a:latin typeface="Tahoma"/>
              </a:rPr>
              <a:t>неизменна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d829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4114800"/>
            <a:ext cx="358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d82900"/>
                  </a:outerShdw>
                </a:effectLst>
                <a:latin typeface="Tahoma"/>
              </a:rPr>
              <a:t>себеотрицателна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d829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4120" y="4038480"/>
            <a:ext cx="3504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себелюби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5334120"/>
            <a:ext cx="4495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1" lang="bg-BG" sz="2400" spc="-1" strike="noStrike">
                <a:solidFill>
                  <a:srgbClr val="ffffcc"/>
                </a:solidFill>
                <a:latin typeface="Tahoma"/>
              </a:rPr>
              <a:t>иж: Еф. 2:4-6; Тит. 3:3-5; Тит 2:11; Ин. 13:1; Рим. 8:35,38,39; 2Кор. 5:14,1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5410080"/>
            <a:ext cx="4375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cc"/>
                </a:solidFill>
                <a:latin typeface="Tahoma"/>
              </a:rPr>
              <a:t>Виж: Ис.53:6; ср.Фил. 2:21; Рим. 3:2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752480"/>
            <a:ext cx="4800600" cy="557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Чудя се как вие оставяте Онзи, който в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призова чрез Христовата благодат, и така скоро преминавате   към друго благовестие, ..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76212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c66"/>
                </a:solidFill>
                <a:latin typeface="Tahoma"/>
              </a:rPr>
              <a:t>Галатяни 1:6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Tahoma"/>
              </a:rPr>
              <a:t>Историческа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19320"/>
            <a:ext cx="838188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ървият, който се е опитал да внесе промени, бил Маркион - ( 85 - 160 г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Ориген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185-254 г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 променил текста “Бог е любов” - </a:t>
            </a:r>
            <a:r>
              <a:rPr b="0" lang="bg-BG" sz="32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0" i="1" lang="bg-BG" sz="3200" spc="-1" strike="noStrike">
                <a:solidFill>
                  <a:srgbClr val="ffff66"/>
                </a:solidFill>
                <a:latin typeface="Tahoma"/>
              </a:rPr>
              <a:t>агапе)</a:t>
            </a:r>
            <a:r>
              <a:rPr b="0" i="1" lang="bg-BG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в Бог е любов - </a:t>
            </a:r>
            <a:r>
              <a:rPr b="0" lang="bg-BG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i="1" lang="bg-BG" sz="3200" spc="-1" strike="noStrike">
                <a:solidFill>
                  <a:srgbClr val="ffff00"/>
                </a:solidFill>
                <a:latin typeface="Tahoma"/>
              </a:rPr>
              <a:t>еро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Августи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(354 - 430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 г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 оперирайки с гръцката логика, съчетал понятието агапе с идеята ерос и произвел синтез, който назовал на латински </a:t>
            </a:r>
            <a:r>
              <a:rPr b="0" i="1" lang="bg-BG" sz="3200" spc="-1" strike="noStrike">
                <a:solidFill>
                  <a:srgbClr val="ffff00"/>
                </a:solidFill>
                <a:latin typeface="Tahoma"/>
              </a:rPr>
              <a:t>карита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07:24:16Z</dcterms:created>
  <dc:creator>D.N.T.</dc:creator>
  <dc:description/>
  <dc:language>en-US</dc:language>
  <cp:lastModifiedBy>zzz</cp:lastModifiedBy>
  <dcterms:modified xsi:type="dcterms:W3CDTF">2002-11-03T23:38:50Z</dcterms:modified>
  <cp:revision>7</cp:revision>
  <dc:subject/>
  <dc:title>No Slide Title</dc:title>
</cp:coreProperties>
</file>